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685E-C9BE-4A84-A142-83E5809D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8BA-00E3-4A39-93DC-61C193CA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260-F17E-4389-86D3-C9EE4B2E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5BA-DCBA-42AB-9363-38CFD9DC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032-AAE4-4343-B30A-5F15029F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FC39-B5A8-4749-95F4-4AFE7F1C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366-7A8F-4ABC-8721-07C777F3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DC9-6139-44E8-8021-1D3EDE8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957-3EDC-4684-AC63-AA922FD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257-B469-48F6-9E79-86ADB052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3E7-0245-4B30-8982-AE4D5B4B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4DE-176C-4ED9-B00D-1FE2C97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5FC9-2BB9-4F26-AF70-5874548C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Ryan O and William 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11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Explain why the Aztec and Inca civilizations declined in the 16th centu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ztecs civilization is  located in Central Mex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capital is Tenochtilan –city built in middle of la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ere Polytheistic –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ced other tribes to give them mone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often used human  sacrifice to please many of there go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ieses called Smallpox made many of them sick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7600" y="16009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6200000">
            <a:off x="4663440" y="1585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008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16200000">
            <a:off x="4663440" y="1585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9120" y="5257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civilization lived on the Mexican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en one city which would make it harder for them to get conqu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gion did not have as much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slaves-who could gain there freed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84240" y="1676520"/>
            <a:ext cx="290196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6400" y="6171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um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near Andes Mt. in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as capital is Cuz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no written language but they had a spoke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they use rope with knots in it to send mess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d animal sacrifice, and only on special occasions practiced human sacrifice mostly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4080" y="4714920"/>
            <a:ext cx="4210200" cy="237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60634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s.fullerton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5000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welcomed the Spanish when they thought Cortez finally arrived with his tro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tricked the Aztecs into following ther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Spanish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refused to follow the Spanish reli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worshipped a god called Quetzacoa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682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Explorer and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 tribes was around 2,000,00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s did not value Gold as much as the Spanish did because they used the gold for decoration and the Spanish used it for mone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conquistadors and explorers change the Central and South Americas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Central and South America  were changed forever because the Spanish taught the people thei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most of the people are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4419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10480" y="54100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682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54Z</dcterms:created>
  <dc:creator>jklib</dc:creator>
  <dc:description/>
  <dc:language>en-US</dc:language>
  <cp:lastModifiedBy>jklib</cp:lastModifiedBy>
  <dcterms:modified xsi:type="dcterms:W3CDTF">2011-11-30T17:26:24Z</dcterms:modified>
  <cp:revision>8</cp:revision>
  <dc:subject/>
  <dc:title>Pre-Columbian Civilization</dc:title>
</cp:coreProperties>
</file>